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EB8-1766-4F1E-99FD-8F652CB9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738-33FA-4E27-A271-2CAC4D28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EEA78-2464-48FC-95DB-82E41C15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9E0F7-9912-4508-963F-9B145DCF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DC0F2-D310-4A6F-9D55-CF062EA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710D7-2041-4666-8B95-ADC53972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14A05-245C-4FB2-9FD1-D7609550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75083-9BEA-4670-B69C-50579647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47F6A-6CF0-4BEF-9C24-7DC7F420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3826F-2021-4243-98B3-591C45F5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95133-236B-4778-8391-49DE3162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FD3-4B11-4A46-BF69-03616C89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05C-4C48-49BE-AAC1-CA43A2FD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6ADF-DBFC-4D59-BD3A-28F97B75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88F6-4765-4232-AF03-C5BDC275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5EAF-971B-465C-AE49-9F1C00B4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684F-6224-4B5A-9425-EE52FF78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AAC4-9EB6-4235-898C-DCE11130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08F1-53A4-44F1-9DEA-22AC9B8F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6C0B-6E54-46C3-9203-E83E53B1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EB7-CAC2-4298-9CAF-CEDB0F39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E3DA-DAC4-457D-A7CE-D19F302C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D8CF-06F4-403B-8CF4-6A4880CA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68CB-E73F-4EC0-9D49-F23DE90F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E36A-CC4F-4AE0-AC94-8B4F6CF8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23C4-CE70-4A72-931C-2B35A11A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187F-3FF3-473F-9D2A-93C7BCD4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DCB7-DD9C-4BFD-AF3C-A7632286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00CE-3DD3-4683-8E54-9105F43F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ABB8-1DC1-4046-8E63-46BAE296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E90E-9147-4868-97FC-9E66E377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803-0FFB-4C4F-80E2-F5D16E33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78FE-8E56-42E6-9B1C-53696E6C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5C11-7A07-4917-A664-1406B63C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2DD8-527A-4855-AED8-5FA72A9E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48B12-45BA-49C4-BB68-E0A2859C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87F3-0B25-466C-B682-B10CC74B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5AF2-B0B6-487F-8B91-728945DF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1271-4D37-425B-96ED-318FB96C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E596-6417-42F7-9712-7ABFFB2B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17C8-9C0A-49E5-B711-701DA61B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7186-87BC-42B5-B019-31DF307F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C94-63F8-4DDC-8391-31DADF3E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366AF-2E4C-4025-87F2-82756D04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60885-EB33-4F79-AD98-68D15C70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205A-AECC-4B76-A8FC-1B4514A7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4A259-C945-4931-99F6-B0AAEA9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C6E48-28CF-4527-AFC0-4BB9DED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FB7AA-A678-4796-976F-D9AB0029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DBCB-00E4-4A9E-942E-FBF2DE49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337A1-E1D9-441F-9867-F49A1F55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AA12-1C94-48DC-B55F-D82D4E73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B6565-7E45-4010-A29C-6141B371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EA7-D5FE-49F2-AFA0-4E93CDEF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BF42D-6662-4D2E-B18B-D487A925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E6E1F-22D1-48BB-AFC7-08BBD8B3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063C2-F932-4BCA-B99A-119B31F7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1E99D-B491-4DE1-9BC9-EA19F824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6310-B88F-4EFA-89CC-7E0F2492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AC91-C4C6-40DF-9CFF-A926BB7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C1471-A2DF-43F2-9A80-1103C032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80EA-95C9-4D71-96D9-2E7835D6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AFAD2-7D19-4EB0-9041-D821625A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BFFD4-3471-46C4-877A-20A75C64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4B8-4BB6-4DB7-BEB5-B4C58081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BF3AC-901B-407E-9CFE-85B0CFC8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406DB-234B-4910-ACB2-7352040E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60BA4-ACD1-45F5-A410-741D2203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42FC4-1438-475B-BF01-DD7D2A0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91016-6743-41F1-B89C-3473347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2C2F-F850-413C-9E2E-B86C0142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498B8-B97C-46A5-B79C-65959CDB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10712-10E3-40B8-9BB0-1D6BAC26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5B128-FB11-4030-B93C-9CC0CCD1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3DCA4-A8F3-49B8-A9BB-88846626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E7B-DD2D-4F8B-A990-EB6920A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CFBF7-62D4-4FED-9A8F-CAAEBB94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8C1C2-0E8D-45F3-B3DE-B8E5E3DE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AAA66-8FA2-4C8E-BF7C-0BADA2C8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4C0BA-0A15-471C-BE37-6D90DFC9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DDCA8-EDE8-4F18-9B7C-43013148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4E760-810C-4579-80DF-3D5C7BA1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BC166-BB10-4D2E-9039-D7AE328B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E99B0-D5A0-4451-9138-9B87F67E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1316B-5BFE-4D65-9353-294C75CE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3698E-3F1C-4A6C-8162-341DBF2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EBB-DDD4-43F4-9ACC-A5B6D9B4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F0939-1640-4A8F-B095-E7F5088A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1D639-C100-410B-87DD-5A3C557E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50758-9A66-43D2-B9C5-A0EB5DF8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21832-84FB-4745-B0AC-38C8FAF9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BC603-7BA8-44A5-972B-5960A65D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467E3-50F6-4674-A043-F5DE3AC4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2F1B2-B6A8-4898-A5ED-8B4F7B93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FADC2-3013-4927-BBD2-96785747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9AB55-FFF0-4DA2-862E-7A3CA1FD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2ACC2-D63C-42AA-8176-104DCD40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073-280E-4698-BBA0-8ED0AEA4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A7AF8-D2FE-4534-AE60-F7DF02D3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BE1DB-AEE1-44E1-A52D-629F4EB9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39F96-EAA0-4298-8D19-903B8021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9A35B-FDB5-4B5D-A838-E71B65F5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5F8D-583E-4F49-A3D6-EA135F02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83183-B56D-40B0-894A-6380687B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4A9F6-EE14-4529-947C-34CFB7AC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E33E1-5C0B-409A-9F6D-571D2D0B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27008-BB2D-400A-8164-26789216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4B0C2-A361-44A5-BB60-AAC57C4D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8B5-BF75-4637-8C37-068B601A5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1B7C-A648-4021-90C1-EE0B04864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33D2-EA94-4701-B4D3-814DB8C22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82EE-FBCE-4436-8827-78CDE5663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DE57-59C3-4AAB-9FF1-174CE2C81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FAB3-5251-4C2F-80B1-14E5C57C4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76EB-33FA-4852-8B29-FA124DDDC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0372-6E2A-4702-974E-8B8021F87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54AC-6BB0-4FA8-91D2-C67307357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3: Absolute Valu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an absolute value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n absolute value equations in one variable graph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Absolute valu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value is the distance between the value and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value is always po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Graphing absolute valu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|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590920" y="2057400"/>
          <a:ext cx="525780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057400"/>
                    <a:ext cx="525780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hifts in absolute valu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|x-a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s the shap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its to 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r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a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s the shape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its to the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is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733920" y="1219320"/>
            <a:ext cx="3657600" cy="28191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34610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lving an absolute value equation graphically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-3|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|x-3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895480" y="1676520"/>
            <a:ext cx="4707000" cy="4724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 flipV="1">
            <a:off x="5867280" y="2590560"/>
            <a:ext cx="1447920" cy="1447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4495680" y="2514240"/>
            <a:ext cx="1371600" cy="1523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8120" y="3200400"/>
            <a:ext cx="426708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2209680"/>
            <a:ext cx="0" cy="3886200"/>
          </a:xfrm>
          <a:prstGeom prst="line">
            <a:avLst/>
          </a:prstGeom>
          <a:ln w="507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05720" y="1828800"/>
            <a:ext cx="0" cy="4267080"/>
          </a:xfrm>
          <a:prstGeom prst="line">
            <a:avLst/>
          </a:prstGeom>
          <a:ln w="507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ther shifts in absolute valu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|x| 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ph shifts up if a is po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ph shifts down if a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257800" y="1233360"/>
            <a:ext cx="32004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rying a few…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|x-3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|x|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-|x+3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-|x|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42195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hapter Nine Timelin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 11/1 : 9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 11/2 :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11/5 : 9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 11/6 : 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nesday 11/7 : review 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 11/8 : review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 11/13: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20:53:35Z</dcterms:created>
  <dc:creator>nuhs</dc:creator>
  <dc:description/>
  <dc:language>en-US</dc:language>
  <cp:lastModifiedBy>nuhs</cp:lastModifiedBy>
  <dcterms:modified xsi:type="dcterms:W3CDTF">2007-11-05T20:51:26Z</dcterms:modified>
  <cp:revision>12</cp:revision>
  <dc:subject/>
  <dc:title>Slide 1</dc:title>
</cp:coreProperties>
</file>